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448F8D-EAA0-40E3-AE83-782D360CC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05169C9-45D7-4CB8-B851-A6F44E5AA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AFB4D43-4ACC-4D07-8CEC-3D34995AE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ctually happens to the body during blood poison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epticemia is blood poisoning, what is septic art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7F8430C-71A8-4563-897B-A52BB23A0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per treatment, the inflammation usually clears up in about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cur and does for many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make a female susceptible to recurring infections? (poor hygiene, unprotected sex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6904827-7B9C-437D-ABA5-B51E30DAD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women experience the onset of menopause between the ages of 45 and 5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opause can be induced artificially by removal of both ovaries (surgical menopau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A5E9FA4-0682-4079-8BF8-3EA5AB3F1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women also experience depression, poor memory, anxiety, sleep disorders, loss of interest i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curate diagnosis can be made with blood tests to measure if certain hormones are high and estrogen levels a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enopause be avoided? If not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1B1AD55-3AAD-4594-85DE-1DFBEB695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T used to be the conventional treatment for both perimenopausal and postmenopausal women to treat symptoms associated menopause and help protect against other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 is a common concern in menop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steopor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108B244-C8E4-4C6E-B45D-5367EC12D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hysicians still recommend use of HRT for severe cases but for shorter periods lasting from two to five years instead of the long-term use previously pr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since most women experience symptoms for a limited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825ADAB-432D-42B7-AB38-653C38AFE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c floor muscles often weaken as a result of childbirth, old age, or genet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lapse is usually visible upon pelvic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 the pelvic floor muscles serve during pregnanc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0F23036-6FDF-4043-BB64-9B9BE550F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uscles and ligaments become overstretched, they cannot hold the uterus in place, so it falls or sags down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a lump or bulge on the vagina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lapse can be so severe the cervix can bulge out of the vagina (called a complete prolap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pair is often indicated for complete pro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EF88A67-CEBD-47E8-8ADA-B96ACD6DC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high fiber diet be prescribed? (less bowel strain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weight loss improve a uterine prolap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ssary is a device inserted into the vagina to support the ute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, even with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1F59074-8093-45CC-92B9-4AB1A77FC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hildbirth is the cause, it may not become evident until year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6F813E8-8638-4EFC-8926-4027D055B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protrusion of the rectum into the vagina cause both constipation and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68D210C-FEC7-4926-BC01-AA7CE7A9E7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ck of symptoms, in most cases, contributes to the spread of the disease and delays in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E7E07D9-E9C8-49EA-A49B-8C3D13A7E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imilarities and difference between a cystocele and rectoce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se procedures are done at the same time it is called an anterior and posterior (A &amp; P) re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A5F7BDF-C532-40FC-99FB-461605BDE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rvix is the lower part of the ute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functions to allow sperm into the uterine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serves as the birth canal for a ch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2F3A87D-D48F-4482-B399-3CAEFB3752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l discharge may be heavy and foul-sm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cervical cancer is very preventable because it has a long premalignant stage of 10 years or lon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risk factor is not having routine Pap sm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Pap smear actually meas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35F78A1-A778-4A09-B560-70BAE9379B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5C794A9-7C57-488D-85C5-5C38F1094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ditions are associated with HPV vir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V infection is common in individuals who have had early and frequent unprotected sex with multiple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V is detected in 90 percent of cervical can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among women 45 to 55 years and those over 65 who are less likely to get Pap sm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ccine against HPV has been proven effective and is recommended for girls starting at age 9 and young women before first inter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5F0BDCB-C66D-4EE8-B09F-499DE4AD2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 smear obtaining cells from the cervix for testing was specifically developed to detect cervical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ellular abnormalities are detected, a colposcopy and directed biopsy of the cervical lesion is performed to confirm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FD02ED2-D232-4DDE-9ACB-CB6A76D81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depends on the stage cancer is in when discovered: the earlier the stage, the better th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percent survival rate for women with stage I cancer to 15 percent with stage 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rence carries a poor prognosis of 10-15 percent one-year survival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CCF8757-F2FF-499B-8C3F-6BA1F0BCB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urpose of the ova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36F2408-31A9-4FC7-BC80-AEF2593A0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umulation of abdominal fluid usually occurs in later-stag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occur in women between the ages of 40 and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F12448E-633B-4F70-8A7E-CC98937F9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ubal ligation? (form of birth control where tubes are t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family member with ovarian or breast cancer increase the risk of this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787EF9F-6A1E-4D44-AE37-295D698FD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harge may eventually subside, but the infection re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ual reason a woman seeks medical care is because of the irritating dis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1E9C488-D9F8-4195-8C6C-F2292098B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laparoscopic surgery able to view the ova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ovaries are so deep within the pelvic area, a pelvic exam is often unable to physically identify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28F73B5-4D6A-436D-AF12-6DC8C2B88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 the fallopian tubes serve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removal of the uterus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those finding cancer in early stage is good (95 percent - five-year survival rat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ncers have spread outside the ovaries by diagnosis (50 percent - five-yr. survival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ancer is found very early and woman desires to still have children, only one fallopian tube may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D6A95EF-8FF1-41D4-9C4F-DDA9977FF0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65062DD-3191-49AE-908A-0E64FD210D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may be single or multiple, smooth or rounded and can be felt by applying slight pressure o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rness is usually more intense prior to start of menstrua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s less of a problem after menop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88E84E6-EF55-4D78-8E4F-41FD20DC70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is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occurs between the ages of 30 and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related to normal hormon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urpose of the endocrin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363A545-ECD1-496F-B379-B830132D8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some patients find improvement by eliminating caffeine, no universal means of prevention is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known foods/drinks that contain caffe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hould be encouraged to perform monthly breast self-exams and annual mamm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C767B67-561A-491C-ACD0-1C2FA4E24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lact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this be particularly painful if a woman was breastfeeding their chil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D8AA55C-C4F9-4D88-B95A-409AF4204F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ptom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 nodes near armpit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A8577D8-5FDB-4C83-8674-F9AF46BA8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stfeeding need not cease if patient impro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warm soaks lessen the discomf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with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51559E0-3B73-4380-BFDB-D60F36E9F1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is not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by physical examination and mamm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FA18A1E-9168-4290-A993-F37C48F2C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events many individuals who may suspect they have an STD from getting treatment in a timely man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recommend to a person who thinks he or she may have an ST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C97DFC9-49DC-43BE-BD90-98C879371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tumors can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revention is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esthesia refer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2C66568-5D78-438C-84BC-A3D9DA837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mortality in those younger than 35 (aggressive tumor) and older than 75 (immune system less able to fight cancer and handle treatment side eff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6AEE073-20E6-4BD3-93DA-06DC13E68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st pain is not a common factor in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sign is usually a detection of a lump by palpation or mamm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84F7D83-7614-42F5-BD43-359A657CD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urces of endogenous estrogen? (younger age at start of period; older age at menopa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risk of breast cancer so much lower in males? (less sensitive to hormonal influences; male breast does not have lobu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98C75F1-0C8D-4D15-A865-A8F1B1ABB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importance of differentiating a solid mass from a cystic one using ultrasoun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should a self-examination of the breast be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0D7EE9A-25F5-42A2-91C1-87ABBEBFCC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20EF22F-4677-4619-8F60-D8D556180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depends on the stage of the disease and patient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one treatment is typically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if cancer has not spread to surrounding lymph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ized breast cancer has a five-year survival rate of 96 per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293CC8F-512B-49E6-9B3F-F9D4D53D5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oxifen is the only FDA-approved drug for prevention of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FDA stand fo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ogram screening guidelines: women 40 years and older have an annual mammogram and clinical breast exam; women 20-39 years have a clinical breast exam every three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8ECAD20-BEA8-4F2D-A3ED-D72C5E18B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if both partners receive the prescribed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ly one partner receives treatment, reinfection will continue to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5CE19FE-3DA0-4F6B-963A-2C5C429CBE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ive adults carries the genital HSV-2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transmitted by sexual cont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B255B78-61A4-47A7-BE54-55C39FCCD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ful ulcers or blisters usually occur two to 30 days after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is infectious when sores a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lesions also increase the risk of contracting AIDS during sexual co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a condom provide adequate protection from genital herp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rriers, called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dder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transmit the virus without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CB03E69-4800-42E4-94B8-1B5B98004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ntigen t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best ways to avoid contracting herp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CB1CDAC-1859-405D-8D6A-30F415C34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wn immune system may lessen epis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much emotional stress associated with genital her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some of these stressors b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rent episodes are often triggered by fatigue and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4EFFAF0-968D-43A4-B8F9-A771BEF2E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ts are usually painless but very contag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ts appear several weeks to months after direct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22F6983-0FAA-4B9F-8E96-5F299B4A8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STDs can damage health or threaten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STD rates are among the highest in the world and gr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our teenagers eventually gets an S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ultural and social factors contribute to the rising rate of STDs in the U.S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5C66DFB-4B84-45CD-A270-914BDF353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has an incubation period of 1 to 6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 incubation period adds increased risk of passing infection to others or contracting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PV infection place women at higher risk for cervical canc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060D085-C457-4A08-A9EC-FF5A4BF93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both drug and surgery treatments can remove warts, recurrence is comm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cy promotes the growth and spread of the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egnancy promote the growth and spread of les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19F940A-86C2-49A2-B13D-5851869B3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philis is on the rise in the U.S. for the first time in many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cases of syphilis be increa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FFB5261-5DD5-45A9-82C9-67495753D5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cre can appear on either the male or female genit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ic lesions can be found on the skin, lymph nodes, cardiovascular system, brain, and spinal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524FF09-3687-4EA4-A52B-E62FF4BCE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location of the chancre on the head of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indicative of the first stage of syphilis before it begins to spread throughout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719FD27-B032-4DF2-B3FA-4E2ABE822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the initial chancre heal once the infection spreads to other parts of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ge lasts anywhere from a few months to about a year. The infection is still contagious at this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11E86B8-121F-48D3-85E7-78AF02C42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infection is latent, it can give the false impression that it is no longer active or causing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you tell a person in this latent stage about his or her syphilis infe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43CACD2-70E2-436B-8A83-B96889A64D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consequences of untreated syphilis are so severe, early treatment is ess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philis is contracted similarly as other STDs: through sexual contact or direct contact with infected lesions or infected bodily fl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5BA06A4-CF07-4440-9821-93D48B024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allergic to penicillin may be given alternatives such as tetracyc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reatment is not administered, consequences can include: paralysis, numbness, gradual blindness, and dement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BAA6EAA-8352-4B84-AC27-7474363A0D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ection begins in the region of the genitals but can spread to other parts of the body if un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by examination by the characteristics of the le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3134E09-7244-4723-A2D2-FD292260A2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STD is also heightened with use of alcohol or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use of these substances increase risk of getting an ST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4C112E4-DBC0-41AF-BB43-C11317C78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iotic therapy usually cures the lesions and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oms help prevent the spread of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imilarities and differences between a chancre and chancro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3D3DA0F-8AB7-4666-BDE7-A0586B19B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, the liver can become significantly impaired by hepatitis B or even cease functio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the li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EA9813C-95A7-41DC-B7A3-64BC281DD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common ways the virus is contracted is through sexual contact with an infected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exual transmission is so common, it is often associated with sexually transmitted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 care workers are at risk of infection from accidental needle puncture or scra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use of a condom prevent transmission of hepatitis 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C84A338-D6CF-4799-8AEE-C6DC66C982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symptoms of acute hepatiti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hepatitis A and B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7DEAD0A-C902-45B9-9E8B-FCE088DFB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tests for hepatitis B confirm the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ses clear up by themselves, while others go on to become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alcoholics often die of cirrhosis of the l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lcohol so hard on the li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4EE13E3-333A-4831-822E-693672246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become chronic carriers because the virus remains in their blood and can infect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erson can live for years with hepatitis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6A6A8E1-DF5D-48AA-9208-0D609DFEF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A3BDFD9-E31F-4A6F-AD65-BFA6A033F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this lesson takes a look at some of the most common sexual dysfunctions that occur in both males and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DF6F070-973E-422E-968D-104D336A2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of discomfort and reason for the problem varies by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1E3F43C-D426-4975-B9C6-325F0DD7D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hy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 intact hymen cause pain during intercour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 spermicide cause discomfort? (allergic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6A76A22-5AE9-4860-BE51-77BEDC2D2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ymptoms may not be evident, what are the implications for spreading the dise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best way to avoid spreading an STD like chlamyd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60E7C88-0685-4644-922C-C3005E650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past sexual abuse create psychological pain for a woman during intercourse in the pres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ntervention would you suggest if this were the ca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DCD4BAA-83E8-4CC4-A7C3-8E0580BE7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xiety or guilt be responsible for pain or discomfort during inter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a male feel anxious or guilty abou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E3D465F-EBCE-4868-A49D-9FC08D9DD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ircumstances might surgery be 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7AF1145-B300-459F-BB37-C8D2ADDB5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ommon disorder that affects most men at some time during their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can be temporary or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66A874E-89E9-4CAD-BFDC-36E1B13564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ma to the spinal cord, pelvis, and perineum (area around scrotum and anus) may interrupt the impulse transmission between the central nervous system and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impedes the nerve response or alters the blood flow to the penis causes a failure of an e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visual image create a physically-aroused respons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934DF8F-40BF-4429-9327-A52A2D916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cohol a stimulant or depress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lcohol cause ED/impo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86D3275-A6DD-4150-93CC-51C64E758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an example of an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disease?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 family history act as a reasonable predictor of possible ED/impo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624665F-A215-4735-A69A-880408038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osterone therapy is used primarily with men who have a deficiency of the male hormone testosterone or an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nile implants and how do they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al drug commonly used for impote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FA3EC6B-637F-46F8-BFD6-9016F5A59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ability to conceive can originate in both males and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s of male to female reasons for infertility are nearly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AA73BB3-DE37-42D8-944E-E337A6B4B3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perm need good motility for fertiliz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presence of an STD affect a coup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con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A7B89C4-B2FE-4894-BAE2-5A0BBDCD3C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ymptoms are present, they usually begin one or two weeks after exposure and are likely to be m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ymptoms are not present but a person suspects he or she may be infected, what should the person d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2BB0286-BD2A-4FB6-9A37-C39CB5DE5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aus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metr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sperm antibodies in vaginal secre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that compromise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failure to ovulate inhibit a woma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con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one cause common to both men and women: the presence of an S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174EED9-DC9C-4942-A711-7B93CDFB9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1F4C691-D5EE-41AD-BBE6-DE55B5C85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al pregnancy?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endometriosis potentially thwart efforts at concep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F4A9D5C-991B-42F2-8448-4C8961B29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fertility drugs actually d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rtificial insemina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one-half of couples who seek treatment for infertility achieve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A83016F-2775-4F95-964F-F0A405754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iscuss the most common disorders of the male reproductiv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C6BC3D7-2F1B-4D9F-9DC4-DC3B317055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idymitis can be a very painful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 naturally moves from the epididymis to the vas deferens, which is a single duct, before it is excreted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A266BBC-4559-4253-9682-84D58D284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ala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irst few days, symptoms may be particularly painful and significantly hinder on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rou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B1D1AFC-9709-4050-9C4E-125ABD23E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factors that may predispose one to this condition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al infection associated with H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prostate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ed use of an indwelling cath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cause of epididymitis is the bacterium that also causes gonorrhea and chlamy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rolonged use of an indwelling catheter increase on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risk of epididym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6D17496-FD4B-49B7-B712-47B598A02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tient may also have an elevated white blood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an elevated white blood count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A7BB8E2-2EFC-4FF6-87DE-A7787C6CE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reatment is delayed, scarring may occur internally in the duct, which could lead to ster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ility is most likely to occur if the disease affects both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with early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reventive measure is early treatment of urinary trac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9B1E6A3-7EA3-42E9-838E-DAAC59DC6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percent of males will show symptoms one to three weeks after expo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when urinating? (urethritis — inflammation of the urethra caused by infe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81ABAA6-7A27-46A1-8FD8-013010B459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testes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unction does it serve in the male reproductiv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986C49A-BB50-4054-9414-B7915A0E8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half the cases result in atrophy (wasting away or reduction in size) of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testicles are affected, sterility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alysis, blood tests (including serum antibody testing), or throat cultures to determine the presence of mumps are common diagnostic meas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ultrasonography to rule out testicular to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ED66979-43B5-4F1E-BC80-CB964D5C3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who have not had the mumps should be vacc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antibiotics given to individuals with viruses such as the mum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4F25546-F438-4AB1-BA3F-995CF686DD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associated with torsion can be so severe it can cause nausea and vom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309E10D-9662-4C92-9C0D-FB105E86D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spermatic cord is twisted, thereby reducing the blood flow to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wisting of the spermatic cord can occur spontaneously or as a result of tra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 does the testicle serve in the male reproductiv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CDD1A97-E3DB-4C8E-8F94-841ABEA5E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imilarities do torsion and epididymitis sh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y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EAA3396-2750-46AF-BE6C-9B0F7AEAE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nual untwisting of testicle is successful, no further treatment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ing surgery can result in permanent damage to the tes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 untwists the testicle and stitches it into position so the problem will not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8243A1F-186F-4D17-BB67-1E43C4E37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ended veins can correctly be called varicos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varicocele result in a lower sperm count? (increased venous blood raises temperature in the scrot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dition has no apparent cause and most often occurs in the 15- to 25-year-old age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87968A9-2315-4074-9F08-AA0DFB3D8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scrotal support might be most effecti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veins may improve fer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59E62A2-928F-453C-B64A-563D50D68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mation of the prostate gland is more common in men older than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itis can be caused by the same bacterium that is responsible for gono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17EA263-FDD4-45D9-8589-97B7FABAF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ia can be cured with a complete course of antibio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t be important for partners to abstain from intercourse until the infection is completely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iculous personal hygiene is also recommended to patients to avoid spreading the infection to the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B8B357A-0948-4DC9-B909-FA62AFE60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d with a urinalysis, urine culture, and a rectal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hysician attempting to assess with the rectal exa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CF70C2F-AE06-42A5-9C31-42FAC65A2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ntimicrobial dru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itz bath? (A bathtub shaped like a chair in which one bathes in a sitting position, immersing only the hips and butto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reventive measure against prostatitis is early treatment of urinary tract infections with antibio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prostatitis can develop from recurrent urinary trac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10F1D30-01C2-4481-B046-CA3552A6AD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men older than 50 years of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iagnosed with a rectal exam and may include a urinalysis, urine culture, cystoscopy, and urodynamic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ystoscopy and how could it be used to assess BP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0B99B1B-CE05-49A0-A387-579F20F2D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nosis is good with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intervention may allow infection to reach kidneys and cause cystitis and dilation of the ureter, among other com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means of prevention is regular prostate examinations to detect any enlar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FBF72C9-9BDD-4434-A49C-6720DEC82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e cancer grows very slowly and therefore is often diagnosed and treated before condition becomes ter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3 percent of men with prostate cancer die of the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third-leading cause of cancer deaths in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en not know they have prostate can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B9884F4-FF34-403F-AEA3-4DE8992D5B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tate cancer is often without symptom at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ymptoms are present, many are associated with urinary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urine flow tend to be obstructed with prostate cance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64BD9DE-A569-4987-850F-84CDD9514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ules or irregularities on rectal exam suggest prostat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centration of PSA also suggests prostate cancer, although a biopsy is required for a conclusive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ignant prostate tissue generates more PSA than normal tissue and, as a result, can be an important marker for diagnosing prostate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0B7BBF1-2089-4112-BB8E-9A7CA533C2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physical condition of the patient be a consideration in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risks of surgery for an older ma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11745EF-5E30-42EE-90FF-FF88458A3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prostatectomy carries the risk of ED/impotence and urinary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stati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AA08D28-AD6A-4D3F-9FA2-064F7F964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risk of false-positive and false-negative results with the PSA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false-positive and false-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easy way to remember which is whi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23907CC-46A5-40DD-856A-D5BA9D420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50 percent of males are without symptom and may unknowingly continue to spread th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les do develop symptoms, it is usually after an incubation period of three to six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can also affect the eyes and throat and become syst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B5B99D8-A14A-4360-B15F-D6B3B1888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ptoms of advanced disease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y brea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109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ck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e testicles? (produce sperm and primary source of male hormo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cular cancer is one of the most curable types of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in males ages 20 to 3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973CC34-1057-45EA-AECB-1F87A8D7D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with Down syndrome and Klinefelter syndrome may be at greater risk for developing testicular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9BA0259-E577-42D4-BE03-4717A2753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firm, hard area in the affected testis is cause for conc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psy is not usually attempted because of the risk of spreading the tu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36747AE-70AA-4929-AFE5-50E6C7939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testicle is removed, would a male still be fertil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cular germ cell tumors are highly sensitive to chemotherapy but advanced disease may be beyond what chemotherapy can accomp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high rate of cure for testicular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020AE47-02FD-4153-AEE2-7A4C57195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knowing the normal size and shape of the testicles help diagnose a potential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ould a male do if he suspects an irregularity of the testic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5BF14A58-DD56-44F9-A95B-99A730FD6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8034C0C-B385-492D-8EF9-A78F190B8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 number of conditions that can result when microorganisms invade the organs or tumor or cyst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2E52889-8DCC-48AF-8384-B2C25F65E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urposes do the ovaries 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varian cysts are physiologic and occur from puberty to menop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ed cysts can be a result of a sexually transmitted disease or an acute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585A45B-E30F-4EFE-8AAD-E822CAC0F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that can accompany ovarian cysts may warrant urgent medical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welling may be due to a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may include an ultrasound and/or a laparos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C5E4A2F-4ECA-4E53-8FC4-92C720A31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sts that are drained are more likely to re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ignant cysts require more serious surgery and chemotherapy. (See ovarian canc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is good if 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7C5BBB0-AC93-4CCD-9E06-DDF0F951E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nd complete treatment usually results in a complete 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inence from sexual contact is encouraged until treatment is complete and follow-up cultures prov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8547F4E-F9D2-486F-A4E5-7E036950F1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endometrial tissue originally located? (mucous membrane that lines the uter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metriosis is considered a benign condition but can be very painful and chr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32D6584-53BC-496E-816D-73728AD86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ith endometriosis are of childbearing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vic scarring and adhesions can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lammation and scarring that result can cause symptoms even outside of menstruation and lead to infertility or an ectopic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F1BCD43-BBD5-437F-9534-F3C92E91BF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35D27CE-83D4-43FD-AF26-4F7732904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s tailored to age, general health and severity of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 treatment is considered a more conservative approach to increase the possibility of remaining 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hysterecto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6A8013E-9BE7-4A20-A7FB-4C997B513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D can affect all of the female reproductive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5AABB69-F086-41FC-B0B0-AC21C16BA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at risk are young, sexually active women especially those with more than one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D is usually started by an S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may make even walking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8535884-A943-4BB4-A20D-C143F6A684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ginal exam is usually painful because of swelling and inflam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any general antibiotic work for treating P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100A594-6B4A-4ADD-8FD2-9BF928B92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iagnosis and prompt treatment lessens damage to the reproductiv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ammation can cause scarring and adhesions that can cause infertility and increase the risk of ectopic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D002684-70C6-4A00-B6B4-75AC18895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itis is common and all age groups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n may not cause symptoms in the male, but if he is carrying it, he can reinfect the fem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menopausal women have less estrogen, which causes the vaginal lining to be thinner and more susceptible to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7B0D892-8804-4FE5-B30B-F417D4298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vulv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is made with a pelvic exam and specimens from the vagina and cervix that are analyzed in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152280" y="63500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629920" y="6531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7C96-95CD-4493-9695-1E9EA962D8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eases and Conditions of the Reproductive Syste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 treatment can lead to the following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inflammato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oisoning (septic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ic art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antifungal/steroid 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vaginitis is contracted by sexual contact, both partners must be 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cessation of menstrual peri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truation discontinues due to ovaries producing less estrogen, which inhibits ov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pituitary hormone levels bring physical and psycholog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ctuations in menstrual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become lighter and less frequ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 flashes/night sw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dryness/skin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s of management of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research links HRT with increased rate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cl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symptom management is sugges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ption of soy products to replace missing hormones (high in isoflav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to strengthen bones, lower cholesterol, and help relieve vaginal dry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pse of the uterus is a downward displacement of the uterus from its normal location i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erus becomes prolapsed when the pelvic floor muscles and ligaments become extremely overstretched or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7" descr="W0256-12-18a"/>
          <p:cNvPicPr/>
          <p:nvPr/>
        </p:nvPicPr>
        <p:blipFill>
          <a:blip r:embed="rId1"/>
          <a:stretch/>
        </p:blipFill>
        <p:spPr>
          <a:xfrm>
            <a:off x="1484280" y="2178000"/>
            <a:ext cx="2276640" cy="2927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W0256-12-18b"/>
          <p:cNvPicPr/>
          <p:nvPr/>
        </p:nvPicPr>
        <p:blipFill>
          <a:blip r:embed="rId2"/>
          <a:stretch/>
        </p:blipFill>
        <p:spPr>
          <a:xfrm>
            <a:off x="4038480" y="2438280"/>
            <a:ext cx="2368800" cy="2667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W0256-12-18c"/>
          <p:cNvPicPr/>
          <p:nvPr/>
        </p:nvPicPr>
        <p:blipFill>
          <a:blip r:embed="rId3"/>
          <a:stretch/>
        </p:blipFill>
        <p:spPr>
          <a:xfrm>
            <a:off x="6566040" y="2438280"/>
            <a:ext cx="2198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terine Prolap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gel exercise to strengthen the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fiber di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ion of supportive uterine device (pess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(for serious prolap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usion of the rectum into the posterior portion of the va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the posterior wall of the vagina is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result from trauma to the area during child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aring-down fe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tinence of gas/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with eliminating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genitourinary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about 15 percent of sexually activ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fected men and women are without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t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 of the posterior wall of the va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 is good with 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cell growth that is located in the cervix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ervical cancers are squamous cell carcinomas and occur in the area between the uterus and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Pap smear test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y, bloody 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between menstrual periods and/or after intercourse or after 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stage symptom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lvic and lower back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ful ur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l 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having routine Pap sm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human papilloma virus (HPV) most often through unprotected sexual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socio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er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yoablation (removal by freez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coagulation (high-frequency electric current that destroys tiss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st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bove plus radiation therapy and chem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ervical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active women should obtain annual Pap smear and pelv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ree consecutive normal Pap smears, screening can be less frequent as determined by do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ing can cease at age 65-70 for women with no risk fac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one or both o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rian cancer accounts for more deaths than any other gynecological malignancy, because ovaries are located deep within the pelvis and disease is often asymptomatic until the advanced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largement of abdomen caused by accumulated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bdominal discom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gular menstrual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inter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, vague digestive disturb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most diagnosed between ages of 40 and 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breast or ovarian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may reduc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st f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use of oral contracep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bal l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ymptoms are present they are evidenced in both females and males an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or painful ur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: profuse greenish yellow discharge from the vag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but rarely, mass is discovered during routine pelvic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arotomy is indicated once mass is found to confirm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or pelvic CT scans may be used to identify degree of meta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st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val of the ovaries, fallopian tubes, and ute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val of the above organs in combination with chem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eases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s of the breast can range from mild to fatal and necessitate frequent screening, monthly self-examinations, and routine mamm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most diseases of the breast are most common in women, men do experience diseases of the br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, benign breast disorder where lumps and cysts develop in one or both br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female breast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sts are tender when pressure is applied and some women may experience shooting pains in the breas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mm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nography may be used to determine whether lump is hollow or 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ystic Disease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fic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hysicians remove fluid (aspirate) from the cysts with a nee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ring a firm, supporting 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caffe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of the breast tissue that occurs during lactation follow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used by a strep or staph infection that invades the milk ducts and creates inflammation and blo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k stagnates due to blockage and produces a dull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found in breast post delive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ation of heat (at either beginning or end of lactation peri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s hot, doughy, and t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n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s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, supportive 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applied to the painfu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esterone 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so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broadenoma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tender benign tumor of the breast tissue that is firm, round, and encaps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most often in late adolescence or early 2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either the male or female is typically studied for the microorganism respon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 may be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vix may also be examined for the presence of small hemorrhages with a strawberry-like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broadenoma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moval of the tumor under local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the breas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cancer and the second leading cause of cancer death amo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in bre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l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ness of br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tation or dimpling of breas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, ulceration, or retraction of n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metrical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(100 times more frequent in women than 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exposure to endogenous (from within)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use (&gt;5 years) of estrogen/progesterone hormone replacement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 history of breast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percent of cases are diagnosed through abnormal mammogram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der detected by 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arranted, the following may also be used to confirm or clarify diagno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p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ra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I (contrast-enhanc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scan of the abdomen, pelvis, and b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pectomy (removal of tumor and some surrounding t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ctomy (removal of breast and nearby lymph mo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ncer of the Breas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factors that may reduce ris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 a baby before the age of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st feeding for at least six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weight 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ing alcohol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ing tamoxifen for five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r mammogram scre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self-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ichomonia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drugs are given orally or in some cases vagin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examinations to ensure the infection has been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skin in the genital area resulting in painful genital so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 by direct skin-to-skin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herpes simplex virus type 2 (HSV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ercentage of infections go unnoti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r more blister-like lesions on or around the genitals or 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ollen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characteristic lesions on the male or femal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ntigen test or tissue culture may confirm the diagn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Herp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cription drugs are routinely used to reduce the frequency and duration of outbrea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ith genital herpes are at increased risk for cervical cancer and are encouraged to obtain a Pap smear every six months for scre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ital infection that causes raised cauliflower-like growths in or near the vagina or rectum or along the pe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ts are caused by the human papillomavirus (HPV) and is usually transmitted through sexual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ital Wart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Condylomata Acuminata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ly Transmitted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20 infectious diseases are spread by sexual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ly transmitted diseases (STDs) are spread from one person to another through bodily fluids (blood, semen, vaginal secretions) during vaginal, anal, or oral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pread by direct contact with infecte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War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tching or b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varies by size, number, and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risk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ith HPV infection are at greater risk for cervical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ital War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ical 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yosurgery: freezing and removing affected t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desiccation: removing warts using la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genital warts disappear without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ronic, sexually transmitted infection that can affect the entire body if left un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nifest in four s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 painless but highly contagious local lesion called a chancre (pronounced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g-k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ound on the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one-two months, the primary lesion heals, but the infection spreads throughout the body and can cause similar lesions 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Picture 7" descr="W0256-12-07"/>
          <p:cNvPicPr/>
          <p:nvPr/>
        </p:nvPicPr>
        <p:blipFill>
          <a:blip r:embed="rId1"/>
          <a:stretch/>
        </p:blipFill>
        <p:spPr>
          <a:xfrm>
            <a:off x="2290680" y="1465200"/>
            <a:ext cx="4562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fection begins spreading systemically throughout the body and may prese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ng j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uth s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hes on palms or soles of f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tent period follows where the infection is without symptoms but can be transmitted in the first few years of this s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stage can last from one to 40 years and varies by 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st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nal stage, lesions (called gummas) invade the body organs and systems and cause widespread damage that can be disabling and life-threat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phil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ured with a course of antibiotic therapy using penicillin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are monitored with follow-up blood tests for up to one year to ensure elimination of inf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ncroi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terial infection of the genitalia that causes a shallow and painless lesion on the skin or mucous membrane that appears seven to 10 days after sexual contact with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ime, ulcer usually deepens and oozes 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is at greater risk for getting 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D if he or s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sex without knowledge of partne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s drug-related nee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sex with multiple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direct skin contact with an open wound of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xually Transmitted Disease Risk Fa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ncroid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ions must sometimes be drained sur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ersonal hyg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in from sexual contact during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ection of the liver that is caused by a DNA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ease has a long incubation and symptoms may become severe or chronic, causing serious damage to the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transmitted b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minated blood or blood derivatives in transf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ual contact with an infected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contaminated needles and instru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comf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-colored bowel mov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ing of the skin and eyes (jaund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ases are self-li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tions to control nausea and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fat, high-carbohydrate di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triction of phys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cohol should be avoided at all costs because of its potential to strain the l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tiviral therapy for chronic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patitis B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cases: prognosis is g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er heals and regene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several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cases: prognosis is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ammation causes destruction of liver cells and possible liver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 12.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 Dysfun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dysfunction is the abnormal or impaired function of sexual behavior resulting from physical and/or mental imbalances 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recurrent painful or difficult sexual intercou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in men and women but is more common i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auses (wo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ct hy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fficient lubr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n ST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spermic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inflammato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cysts or tumors in pelvic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frequently reported infectious diseases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 than gonorrhea and the leading cause of pelvic inflammatory disease and sterility i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called the silent STD because it often has no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causes (wo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s (including fear of pregna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m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w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ght fore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of the pro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 or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yspareun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d by cause but coul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lubricants during intercou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tle stretching of vaginal op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 existing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psychosexual issues in couns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ive surgery, if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ability of a man to perform sexual intercourse, usually because he is unable to attain or maintain an erection of the pe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rectile Dysfunction (ED)/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t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465200"/>
            <a:ext cx="38019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ve disorders arising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ate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5880" y="1465200"/>
            <a:ext cx="38019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onscious gui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ual tra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ordant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xiety about 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nic fat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used to treat hypertension and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a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ist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tests to rule out organic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of testostero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istory of patient and fami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chronic disease such as diabetes, hypertension heart disease, renal or vascular proble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 habits such as smoking, alcohol use, stress levels, and degree of sexual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/Impot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 discontinue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osteron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couns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ile implants/injec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vacuum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oluntary inability to con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regular unprotected intercourse, about 90 percent of couples conceive within one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ose unable: approximately 40 percent can be attributed to male factors, 40 percent more to female factors, and less than 10 percent 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fficient number of sp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motility (movement) of sp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an STD or any infection or blo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hysical conditions (genetic disorders) or injuries (radiation exposure, hormonal imbalances) that may result in ster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ymptoms are present they are evidenced in both females and males an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 vaginal discharge with burning s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during intercourse (dyspareu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(fem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 or infection of the reproduct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ovu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ed fallopian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nital structural or chromosomal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 tissue from infection, ectopic pregnancy, or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history with special attention to childhood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ough physical ex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e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ing of menstrual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 to asses hormon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examination of fallopian tubes and uterine cavity using radiography to determine tubal pa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paroscopy may be necessary to rule out endometri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and Female Infert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es based on diagnosed problem, but commonly inclu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 to remove blo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fertility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ficial in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auterine insemination (I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itro fertilization (IV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 Reproductive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affected organ is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land can become inflamed or enlarged as a result of bacteria and cause urinary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includ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problems (incontinence, difficulty urin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or swelling of reproductive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 dysfunction (ED/impot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flammation of the epididymis, which is a long convoluted tube in the sperm duct system located in the te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&amp;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in or scrotal tenderness/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idymis may become enlarged, tender, or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h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Ds (gonorrhea and syph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ed prostate (prost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pididym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(pain rel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lamma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ance of alcohol and spicy f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otum support &amp;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from penis with burning s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ing sensation when ur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otum may be sw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chitis is an infection of the testis ca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r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/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an infection from the mumps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be attributed to other viruses and bac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follow epididym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ccompany the presence of an ST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ch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(if infection is bacter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mps virus has no specific treatment besi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renal steroid drugs (reduces fever and swelling in severe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otum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where one testicle is twisted out of its normal position, causing a reduction in blood flow to the affected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symptom is sudden, severe pain in one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otum becomes red, swollen, and t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and urinary frequency may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" name="Picture 7" descr="W0256-12-10"/>
          <p:cNvPicPr/>
          <p:nvPr/>
        </p:nvPicPr>
        <p:blipFill>
          <a:blip r:embed="rId1"/>
          <a:stretch/>
        </p:blipFill>
        <p:spPr>
          <a:xfrm>
            <a:off x="3225960" y="1465200"/>
            <a:ext cx="26906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tle phys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und may be necessary to distinguish torsion from epididym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rsion of the Testic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tle manipulation to untwist the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necessary if the above fails to correct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coce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ins of one testicle become abnormally distended, causing swelling around the tes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(especially in hot weather or following exerc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lower sperm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cocel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scrotal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indicated to remove distended veins if fertility is threat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r chronic inflammation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(bacterial or nonbacterial) is the most likely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lamyd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is given to bo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: a single in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by: oral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are encouraged to abstain from intercourse until both partners are c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or burning sensation dur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pain and tende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icrobial penicillin and other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z b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fluid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(for p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nmalignant, noninflammatory enlargement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ompress urethra and cause urinary blo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start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urinary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empt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nign Prostatic Hyperplasia (BPH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nign Prostatic Hyperplasi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ful wa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fluid intake before bed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medications that cause urinary retention (decongest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 (to relax tightened muscles inside the prostate or shrink enlarged prostate gla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may be performed to remove urinary trac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cy of the prostate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(most cases occur in men over age 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dity (presence of certain ge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 (diet high in animal fat, low in vegetables and seleni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 (more common in African-Americ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interrupted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y starting or stopping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ile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rectal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test to determine level of prostate specific antigen (P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psy (indicated if PSA level is 10ng/m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treatment depends on several fac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ge of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condition of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l resection of the prostate (TU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herapy (for metastatic prostate canc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vention (for men 70 years or older or who have other co-existing illne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state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screening for all men 50 years of age or older, which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rectal ex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um PSA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ither test is positive transrectal ultrasound biopsy is per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mon STD with symptoms similar to chlamy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charge of pus from the genital tract in both males and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or painful ur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 vary in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tumor of the tes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 on or swelling of one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ll ache or heavy sensation in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disease 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extremity s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e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history of testicular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sticle that has not descended into the scro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V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examination of the testes to detect possible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testicular cancer may be followed b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otal ultra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scan of abdomen and pelv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ion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icular Canc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testicular self-exam is the most reliable screen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s body awareness (allows males to assess the normal size and shape of testicl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early detection of abnorm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 12.3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emale Reproductive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male reproductive organs are susceptible to disease in two distinct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organisms can invade the organs, allowing infections to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s (both benign and malignant) and cysts can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-filled semi-solid or solid masses that originate within o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ologic cysts (those caused by normal functioning of the ov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tic cysts (benign or malignant and not related to normal functi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small and unnoticed by the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ysts can cause urinary r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cyst produces hormones various symptom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sts may twist on themselves causing pain, 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arian Cy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cysts are common and seldom require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y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drained or rem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onorrhe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 for bo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any strains of the bacteria that cause gonorrhea have become resistant to standard antibiotic therapy (tetracycline and penicillin), follow-up cultures are routinely ordered to ensure a complete 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dition in which the endometrial tissue implants outside the uterus in the pelvic cavity or in other distant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dysmenorrhea is a classic sy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ain and cramping in lower abdomen beginning before and lasting several days after menstr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vic pain during inter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during defe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hickening and bleeding in these unnatural areas (and the resulting cysts, scar tissue, and adhesions) are the cause of pain and discom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include: family history of the disease, menstrual cycles shorter than 28 days, uterine structural abnormalities and periods lasting longer than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dometrio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 treatment for young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, nursing, and menopause usually bring a remission of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ery to remove or destroy endometrial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hysterectomy with bilateral salpingo-oophorectomy may be indicated in severe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ection of a wom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lv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self limiting to life-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lvic Inflammatory Disease (PID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l-smelling 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ful, tend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enderness during vaginal ex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s include elevated WBC and 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sonography may be used to identify abcess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aroscopy is helpful to confirm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lvic Inflammatory Disea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ssive antibiotic therapy to treat disease and help prevent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effective treatment, serious and life-threatening complications can deve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flammation and/or infection of the vaginal t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al infection most common cause; or may be bacterial or protoz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vical infections may be mistaken for vag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menopausal women are also at greater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gin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</a:t>
            </a: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ginal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ching/burning sensation of the vul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may b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05:16Z</dcterms:created>
  <dc:creator>Gary Gilles</dc:creator>
  <dc:description/>
  <dc:language>en-US</dc:language>
  <cp:lastModifiedBy>Mary Flanagan</cp:lastModifiedBy>
  <dcterms:modified xsi:type="dcterms:W3CDTF">2011-06-21T13:16:02Z</dcterms:modified>
  <cp:revision>186</cp:revision>
  <dc:subject/>
  <dc:title>Chapter 12  Diseases and Conditions of the Reproductive System</dc:title>
</cp:coreProperties>
</file>